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wmf" ContentType="image/x-wmf"/>
  <Override PartName="/ppt/media/image7.png" ContentType="image/png"/>
  <Override PartName="/ppt/media/image8.wmf" ContentType="image/x-wmf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84F4A-1B4E-41C9-9B22-4884507D1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9280" y="259920"/>
            <a:ext cx="754884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2296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" y="3866400"/>
            <a:ext cx="82296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6AAC1-6668-4328-B014-E97013D1B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9280" y="259920"/>
            <a:ext cx="754884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4015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5400" y="1196640"/>
            <a:ext cx="4015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68360" y="3866400"/>
            <a:ext cx="4015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5400" y="3866400"/>
            <a:ext cx="4015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01C3C-82BA-4F70-B778-484833B2A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39280" y="259920"/>
            <a:ext cx="754884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26496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50800" y="1196640"/>
            <a:ext cx="26496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33240" y="1196640"/>
            <a:ext cx="26496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8360" y="3866400"/>
            <a:ext cx="26496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50800" y="3866400"/>
            <a:ext cx="26496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33240" y="3866400"/>
            <a:ext cx="26496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E2E76-87DB-4D94-971D-EF0EB98CF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9280" y="259920"/>
            <a:ext cx="754884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68360" y="119664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B887C-B3BA-4AC2-B110-90F416EE8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9280" y="259920"/>
            <a:ext cx="754884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C800B-1226-41AD-9078-C881746BA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9280" y="259920"/>
            <a:ext cx="754884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4015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400" y="1196640"/>
            <a:ext cx="4015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CB7CC-E4DE-4BE2-BAF3-77280D399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280" y="259920"/>
            <a:ext cx="754884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9B76B-60F1-4901-B3F7-ABAD9392F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539280" y="259920"/>
            <a:ext cx="7548840" cy="36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51699-12D6-41DB-BD48-56F74F59D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9280" y="259920"/>
            <a:ext cx="754884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4015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5400" y="1196640"/>
            <a:ext cx="4015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8360" y="3866400"/>
            <a:ext cx="4015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93BCE-48E4-4121-BB0C-3403C8043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9280" y="259920"/>
            <a:ext cx="754884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4015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5400" y="1196640"/>
            <a:ext cx="4015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5400" y="3866400"/>
            <a:ext cx="4015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718E0-2A1B-429B-8932-E70D7A9FD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9280" y="259920"/>
            <a:ext cx="754884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4015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5400" y="1196640"/>
            <a:ext cx="4015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8360" y="3866400"/>
            <a:ext cx="82296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286F1-4A15-44F5-BA9A-A3910B501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68360" y="1196640"/>
            <a:ext cx="8229600" cy="511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66"/>
                </a:solidFill>
                <a:latin typeface="Arial"/>
              </a:rPr>
              <a:t>Click to edit the outline text format</a:t>
            </a:r>
            <a:endParaRPr b="1" i="1" lang="en-US" sz="2800" spc="-1" strike="noStrike">
              <a:solidFill>
                <a:srgbClr val="ffff66"/>
              </a:solidFill>
              <a:latin typeface="Arial"/>
            </a:endParaRPr>
          </a:p>
          <a:p>
            <a:pPr lvl="1"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66"/>
                </a:solidFill>
                <a:latin typeface="Arial"/>
              </a:rPr>
              <a:t>Second Outline Level</a:t>
            </a:r>
            <a:endParaRPr b="1" i="1" lang="en-US" sz="2800" spc="-1" strike="noStrike">
              <a:solidFill>
                <a:srgbClr val="ffff66"/>
              </a:solidFill>
              <a:latin typeface="Arial"/>
            </a:endParaRPr>
          </a:p>
          <a:p>
            <a:pPr lvl="2"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66"/>
                </a:solidFill>
                <a:latin typeface="Arial"/>
              </a:rPr>
              <a:t>Third Outline Level</a:t>
            </a:r>
            <a:endParaRPr b="1" i="1" lang="en-US" sz="2800" spc="-1" strike="noStrike">
              <a:solidFill>
                <a:srgbClr val="ffff66"/>
              </a:solidFill>
              <a:latin typeface="Arial"/>
            </a:endParaRPr>
          </a:p>
          <a:p>
            <a:pPr lvl="3"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≈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66"/>
                </a:solidFill>
                <a:latin typeface="Arial"/>
              </a:rPr>
              <a:t>Fourth Outline Level</a:t>
            </a:r>
            <a:endParaRPr b="1" i="1" lang="en-US" sz="2800" spc="-1" strike="noStrike">
              <a:solidFill>
                <a:srgbClr val="ffff66"/>
              </a:solidFill>
              <a:latin typeface="Arial"/>
            </a:endParaRPr>
          </a:p>
          <a:p>
            <a:pPr lvl="4"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66"/>
                </a:solidFill>
                <a:latin typeface="Arial"/>
              </a:rPr>
              <a:t>Fifth Outline Level</a:t>
            </a:r>
            <a:endParaRPr b="1" i="1" lang="en-US" sz="2800" spc="-1" strike="noStrike">
              <a:solidFill>
                <a:srgbClr val="ffff66"/>
              </a:solidFill>
              <a:latin typeface="Arial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66"/>
                </a:solidFill>
                <a:latin typeface="Arial"/>
              </a:rPr>
              <a:t>Sixth Outline Level</a:t>
            </a:r>
            <a:endParaRPr b="1" i="1" lang="en-US" sz="2800" spc="-1" strike="noStrike">
              <a:solidFill>
                <a:srgbClr val="ffff66"/>
              </a:solidFill>
              <a:latin typeface="Arial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66"/>
                </a:solidFill>
                <a:latin typeface="Arial"/>
              </a:rPr>
              <a:t>Seventh Outline Level</a:t>
            </a:r>
            <a:endParaRPr b="1" i="1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539280" y="259920"/>
            <a:ext cx="7548840" cy="792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1" i="1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dddddd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dddddd"/>
                </a:solidFill>
                <a:latin typeface="Arial"/>
              </a:rPr>
              <a:t>Apr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400440"/>
            <a:ext cx="289584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dddddd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dddddd"/>
                </a:solidFill>
                <a:latin typeface="Arial"/>
              </a:rPr>
              <a:t>24-23cm Am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dddd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9225A-EE31-40CC-B1F3-758238CE4446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7942320" y="243000"/>
            <a:ext cx="1068480" cy="680760"/>
            <a:chOff x="7942320" y="243000"/>
            <a:chExt cx="1068480" cy="680760"/>
          </a:xfrm>
        </p:grpSpPr>
        <p:sp>
          <p:nvSpPr>
            <p:cNvPr id="7" name=""/>
            <p:cNvSpPr/>
            <p:nvPr/>
          </p:nvSpPr>
          <p:spPr>
            <a:xfrm>
              <a:off x="7942320" y="584280"/>
              <a:ext cx="2397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678880" y="584280"/>
              <a:ext cx="3319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5400000">
              <a:off x="8226360" y="288720"/>
              <a:ext cx="680760" cy="588960"/>
            </a:xfrm>
            <a:prstGeom prst="triangle">
              <a:avLst>
                <a:gd name="adj" fmla="val 50000"/>
              </a:avLst>
            </a:prstGeom>
            <a:solidFill>
              <a:srgbClr val="0033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rot="5400000">
              <a:off x="8043840" y="401400"/>
              <a:ext cx="419040" cy="362160"/>
            </a:xfrm>
            <a:prstGeom prst="triangle">
              <a:avLst>
                <a:gd name="adj" fmla="val 50000"/>
              </a:avLst>
            </a:prstGeom>
            <a:solidFill>
              <a:srgbClr val="3366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image" Target="../media/image7.png"/><Relationship Id="rId4" Type="http://schemas.openxmlformats.org/officeDocument/2006/relationships/package" Target="../embeddings/oleObject2.xlsx"/><Relationship Id="rId5" Type="http://schemas.openxmlformats.org/officeDocument/2006/relationships/image" Target="../media/image8.wmf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684360" y="692280"/>
            <a:ext cx="8135640" cy="50306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ff66"/>
                </a:solidFill>
                <a:latin typeface="Arial"/>
              </a:rPr>
              <a:t>24 – 23 cm Amplifier I/O Cablin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66"/>
                </a:solidFill>
                <a:latin typeface="Arial"/>
              </a:rPr>
              <a:t>for PCB Ver 0.0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Verdana"/>
              </a:rPr>
              <a:t>                                </a:t>
            </a:r>
            <a:r>
              <a:rPr b="1" i="1" lang="en-US" sz="2800" spc="-1" strike="noStrike">
                <a:solidFill>
                  <a:srgbClr val="ffffff"/>
                </a:solidFill>
                <a:latin typeface="Verdana"/>
              </a:rPr>
              <a:t>Wayne Getch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Verdana"/>
              </a:rPr>
              <a:t>                                            </a:t>
            </a:r>
            <a:r>
              <a:rPr b="1" i="1" lang="en-US" sz="2800" spc="-1" strike="noStrike">
                <a:solidFill>
                  <a:srgbClr val="ffffff"/>
                </a:solidFill>
                <a:latin typeface="Verdana"/>
              </a:rPr>
              <a:t>VE3CZ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CB Prototyping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01B3F-81F2-402B-9B60-4516601B038C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15F28E-DEFA-4E0C-AD76-66EA486C949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9280" y="259920"/>
            <a:ext cx="7548840" cy="792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4400" spc="-1" strike="noStrike">
                <a:solidFill>
                  <a:srgbClr val="ffff66"/>
                </a:solidFill>
                <a:latin typeface="Arial"/>
              </a:rPr>
              <a:t>PCB to I/O Connections </a:t>
            </a:r>
            <a:endParaRPr b="1" i="1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26920" y="1196640"/>
            <a:ext cx="7561440" cy="4753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11360" y="1176480"/>
            <a:ext cx="7719840" cy="487656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333333"/>
            </a:outerShdw>
          </a:effectLst>
        </p:spPr>
      </p:pic>
      <p:grpSp>
        <p:nvGrpSpPr>
          <p:cNvPr id="52" name=""/>
          <p:cNvGrpSpPr/>
          <p:nvPr/>
        </p:nvGrpSpPr>
        <p:grpSpPr>
          <a:xfrm>
            <a:off x="5765760" y="3573360"/>
            <a:ext cx="2152800" cy="2232000"/>
            <a:chOff x="5765760" y="3573360"/>
            <a:chExt cx="2152800" cy="2232000"/>
          </a:xfrm>
        </p:grpSpPr>
        <p:pic>
          <p:nvPicPr>
            <p:cNvPr id="53" name="" descr=""/>
            <p:cNvPicPr/>
            <p:nvPr/>
          </p:nvPicPr>
          <p:blipFill>
            <a:blip r:embed="rId2"/>
            <a:stretch/>
          </p:blipFill>
          <p:spPr>
            <a:xfrm>
              <a:off x="5765760" y="4413240"/>
              <a:ext cx="93528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5938920" y="3573360"/>
              <a:ext cx="174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800" spc="-1" strike="noStrike">
                  <a:solidFill>
                    <a:srgbClr val="000000"/>
                  </a:solidFill>
                  <a:latin typeface="Arial"/>
                </a:rPr>
                <a:t>6 Pin Mini-D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792760" y="3924360"/>
              <a:ext cx="2111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400" spc="-1" strike="noStrike">
                  <a:solidFill>
                    <a:srgbClr val="000000"/>
                  </a:solidFill>
                  <a:latin typeface="Arial"/>
                </a:rPr>
                <a:t>Chassis Con Front View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740640" y="4219560"/>
              <a:ext cx="1177920" cy="15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400" spc="-1" strike="noStrike">
                  <a:solidFill>
                    <a:srgbClr val="000000"/>
                  </a:solidFill>
                  <a:latin typeface="Arial"/>
                </a:rPr>
                <a:t>Demod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400" spc="-1" strike="noStrike">
                  <a:solidFill>
                    <a:srgbClr val="000000"/>
                  </a:solidFill>
                  <a:latin typeface="Arial"/>
                </a:rPr>
                <a:t>Gn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400" spc="-1" strike="noStrike">
                  <a:solidFill>
                    <a:srgbClr val="000000"/>
                  </a:solidFill>
                  <a:latin typeface="Arial"/>
                </a:rPr>
                <a:t>Gn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400" spc="-1" strike="noStrike">
                  <a:solidFill>
                    <a:srgbClr val="000000"/>
                  </a:solidFill>
                  <a:latin typeface="Arial"/>
                </a:rPr>
                <a:t>PT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400" spc="-1" strike="noStrike">
                  <a:solidFill>
                    <a:srgbClr val="000000"/>
                  </a:solidFill>
                  <a:latin typeface="Arial"/>
                </a:rPr>
                <a:t>Rly Ou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400" spc="-1" strike="noStrike">
                  <a:solidFill>
                    <a:srgbClr val="000000"/>
                  </a:solidFill>
                  <a:latin typeface="Arial"/>
                </a:rPr>
                <a:t>Gnd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400" spc="-1" strike="noStrike">
                  <a:solidFill>
                    <a:srgbClr val="000000"/>
                  </a:solidFill>
                  <a:latin typeface="Arial"/>
                </a:rPr>
                <a:t>Shell -  Gn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CB Prototyp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5AA5E-081E-46C3-BCE2-9365BBDBAF48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EBDE79-0EEC-4EA7-B9BE-BC63E1D41A2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9280" y="259920"/>
            <a:ext cx="7548840" cy="792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4400" spc="-1" strike="noStrike">
                <a:solidFill>
                  <a:srgbClr val="ffff66"/>
                </a:solidFill>
                <a:latin typeface="Arial"/>
              </a:rPr>
              <a:t>Control Cable</a:t>
            </a:r>
            <a:endParaRPr b="1" i="1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819440" y="1819440"/>
            <a:ext cx="6105240" cy="40287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89604" dir="2700000" blurRad="0" rotWithShape="0">
              <a:srgbClr val="3333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ffff66"/>
                </a:solidFill>
                <a:latin typeface="Arial"/>
              </a:rPr>
              <a:t>Male 6 Pin mini-DIN</a:t>
            </a:r>
            <a:endParaRPr b="1" i="1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2647800" y="3209760"/>
            <a:ext cx="1843200" cy="1843200"/>
            <a:chOff x="2647800" y="3209760"/>
            <a:chExt cx="1843200" cy="1843200"/>
          </a:xfrm>
        </p:grpSpPr>
        <p:grpSp>
          <p:nvGrpSpPr>
            <p:cNvPr id="61" name=""/>
            <p:cNvGrpSpPr/>
            <p:nvPr/>
          </p:nvGrpSpPr>
          <p:grpSpPr>
            <a:xfrm>
              <a:off x="2647800" y="3209760"/>
              <a:ext cx="1843200" cy="1843200"/>
              <a:chOff x="2647800" y="3209760"/>
              <a:chExt cx="1843200" cy="1843200"/>
            </a:xfrm>
          </p:grpSpPr>
          <p:pic>
            <p:nvPicPr>
              <p:cNvPr id="62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2647800" y="3209760"/>
                <a:ext cx="1843200" cy="1843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3" name=""/>
              <p:cNvSpPr/>
              <p:nvPr/>
            </p:nvSpPr>
            <p:spPr>
              <a:xfrm>
                <a:off x="3438360" y="3738240"/>
                <a:ext cx="252720" cy="4525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" name=""/>
            <p:cNvGrpSpPr/>
            <p:nvPr/>
          </p:nvGrpSpPr>
          <p:grpSpPr>
            <a:xfrm>
              <a:off x="2847600" y="3508200"/>
              <a:ext cx="1435680" cy="1022760"/>
              <a:chOff x="2847600" y="3508200"/>
              <a:chExt cx="1435680" cy="1022760"/>
            </a:xfrm>
          </p:grpSpPr>
          <p:sp>
            <p:nvSpPr>
              <p:cNvPr id="65" name=""/>
              <p:cNvSpPr/>
              <p:nvPr/>
            </p:nvSpPr>
            <p:spPr>
              <a:xfrm>
                <a:off x="3814200" y="350820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CA" sz="12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3039480" y="350964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CA" sz="12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4017240" y="392580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CA" sz="12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2847600" y="392724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CA" sz="12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3687120" y="425268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CA" sz="12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3179160" y="425448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CA" sz="1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1" name=""/>
          <p:cNvSpPr/>
          <p:nvPr/>
        </p:nvSpPr>
        <p:spPr>
          <a:xfrm>
            <a:off x="4930920" y="3429000"/>
            <a:ext cx="205416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Red  Demod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N/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Yel   G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Clr    PT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Brn   Rly O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N/C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Shell -  bare wire G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930680" y="2027160"/>
            <a:ext cx="317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Rescued from a PC keybo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385720" y="2909880"/>
            <a:ext cx="24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Male Cable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CB Prototyp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7A133-421D-4E60-A376-2A27C5B4E59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95576A-73EE-4025-9C77-5B59AB0B9BD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9280" y="259920"/>
            <a:ext cx="7548840" cy="792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66"/>
                </a:solidFill>
                <a:latin typeface="Arial"/>
              </a:rPr>
              <a:t>Cover Template</a:t>
            </a:r>
            <a:endParaRPr b="1" i="1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468360" y="2205000"/>
          <a:ext cx="4038480" cy="3095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2205000"/>
                    <a:ext cx="4038480" cy="309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" name=""/>
          <p:cNvSpPr/>
          <p:nvPr/>
        </p:nvSpPr>
        <p:spPr>
          <a:xfrm>
            <a:off x="0" y="1038240"/>
            <a:ext cx="9144000" cy="746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32000" y="2565360"/>
            <a:ext cx="1511280" cy="1511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132000" y="1844640"/>
            <a:ext cx="1511280" cy="719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rot="5400000">
            <a:off x="4246200" y="2962080"/>
            <a:ext cx="1513080" cy="719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rot="16200000">
            <a:off x="2014200" y="2961720"/>
            <a:ext cx="1513080" cy="719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rot="10800000">
            <a:off x="3131640" y="4076640"/>
            <a:ext cx="1513080" cy="719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3203640" y="4149720"/>
            <a:ext cx="576360" cy="57636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3851280" y="4076640"/>
            <a:ext cx="792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8920" indent="-8892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600" spc="-1" strike="noStrike">
                <a:solidFill>
                  <a:srgbClr val="000000"/>
                </a:solidFill>
                <a:latin typeface="Arial"/>
              </a:rPr>
              <a:t>Demo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600" spc="-1" strike="noStrike">
                <a:solidFill>
                  <a:srgbClr val="000000"/>
                </a:solidFill>
                <a:latin typeface="Arial"/>
              </a:rPr>
              <a:t>Gn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600" spc="-1" strike="noStrike">
                <a:solidFill>
                  <a:srgbClr val="000000"/>
                </a:solidFill>
                <a:latin typeface="Arial"/>
              </a:rPr>
              <a:t>Gn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600" spc="-1" strike="noStrike">
                <a:solidFill>
                  <a:srgbClr val="000000"/>
                </a:solidFill>
                <a:latin typeface="Arial"/>
              </a:rPr>
              <a:t>PT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600" spc="-1" strike="noStrike">
                <a:solidFill>
                  <a:srgbClr val="000000"/>
                </a:solidFill>
                <a:latin typeface="Arial"/>
              </a:rPr>
              <a:t>Rly Sense Ou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600" spc="-1" strike="noStrike">
                <a:solidFill>
                  <a:srgbClr val="000000"/>
                </a:solidFill>
                <a:latin typeface="Arial"/>
              </a:rPr>
              <a:t>Gn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600" spc="-1" strike="noStrike">
                <a:solidFill>
                  <a:srgbClr val="000000"/>
                </a:solidFill>
                <a:latin typeface="Arial"/>
              </a:rPr>
              <a:t>Shell -  bare wi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089160" y="1844640"/>
            <a:ext cx="158724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1700" spc="-1" strike="noStrike">
                <a:solidFill>
                  <a:srgbClr val="000000"/>
                </a:solidFill>
                <a:latin typeface="Arial"/>
              </a:rPr>
              <a:t>24-23cm Amp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392200" y="3305160"/>
            <a:ext cx="64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1200" spc="-1" strike="noStrike">
                <a:solidFill>
                  <a:srgbClr val="000000"/>
                </a:solidFill>
                <a:latin typeface="Arial"/>
              </a:rPr>
              <a:t>Tx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11320" y="2565360"/>
          <a:ext cx="1974960" cy="133848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911320" y="2565360"/>
                    <a:ext cx="1974960" cy="13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" name=""/>
          <p:cNvSpPr/>
          <p:nvPr/>
        </p:nvSpPr>
        <p:spPr>
          <a:xfrm>
            <a:off x="2413080" y="3738600"/>
            <a:ext cx="680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1200" spc="-1" strike="noStrike">
                <a:solidFill>
                  <a:srgbClr val="000000"/>
                </a:solidFill>
                <a:latin typeface="Arial"/>
              </a:rPr>
              <a:t>Rx 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00800" y="2620800"/>
            <a:ext cx="79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1200" spc="-1" strike="noStrike">
                <a:solidFill>
                  <a:srgbClr val="000000"/>
                </a:solidFill>
                <a:latin typeface="Arial"/>
              </a:rPr>
              <a:t>Anten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076720" y="3284640"/>
            <a:ext cx="142920" cy="14436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859280" y="3284640"/>
            <a:ext cx="142920" cy="1443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643280" y="3284640"/>
            <a:ext cx="142920" cy="144360"/>
          </a:xfrm>
          <a:prstGeom prst="ellipse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4463640" y="3087720"/>
            <a:ext cx="504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CA" sz="800" spc="-1" strike="noStrike">
                <a:solidFill>
                  <a:srgbClr val="000000"/>
                </a:solidFill>
                <a:latin typeface="Arial"/>
              </a:rPr>
              <a:t>O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4926240" y="3088440"/>
            <a:ext cx="465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800" spc="-1" strike="noStrike">
                <a:solidFill>
                  <a:srgbClr val="000000"/>
                </a:solidFill>
                <a:latin typeface="Arial"/>
              </a:rPr>
              <a:t>Pw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4717800" y="3105360"/>
            <a:ext cx="431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800" spc="-1" strike="noStrike">
                <a:solidFill>
                  <a:srgbClr val="000000"/>
                </a:solidFill>
                <a:latin typeface="Arial"/>
              </a:rPr>
              <a:t>Tx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506840" y="3489480"/>
            <a:ext cx="73332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800" spc="-1" strike="noStrike">
                <a:solidFill>
                  <a:srgbClr val="000000"/>
                </a:solidFill>
                <a:latin typeface="Arial"/>
              </a:rPr>
              <a:t>10 - 15V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800" spc="-1" strike="noStrike">
                <a:solidFill>
                  <a:srgbClr val="000000"/>
                </a:solidFill>
                <a:latin typeface="Arial"/>
              </a:rPr>
              <a:t>9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6"/>
          <a:stretch/>
        </p:blipFill>
        <p:spPr>
          <a:xfrm>
            <a:off x="4724280" y="3606840"/>
            <a:ext cx="581040" cy="33192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195720" y="2174760"/>
            <a:ext cx="1396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1000" spc="-1" strike="noStrike">
                <a:solidFill>
                  <a:srgbClr val="000000"/>
                </a:solidFill>
                <a:latin typeface="Arial"/>
              </a:rPr>
              <a:t>Max I/P Pwr = 10m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833640" y="3798720"/>
            <a:ext cx="103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600" spc="-1" strike="noStrike">
                <a:solidFill>
                  <a:srgbClr val="000000"/>
                </a:solidFill>
                <a:latin typeface="Arial"/>
              </a:rPr>
              <a:t>PTT is active low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600" spc="-1" strike="noStrike">
                <a:solidFill>
                  <a:srgbClr val="000000"/>
                </a:solidFill>
                <a:latin typeface="Arial"/>
              </a:rPr>
              <a:t>Rly Sens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i="1" lang="en-CA" sz="600" spc="-1" strike="noStrike">
                <a:solidFill>
                  <a:srgbClr val="000000"/>
                </a:solidFill>
                <a:latin typeface="Arial"/>
              </a:rPr>
              <a:t>0V Rx  5V Tx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141720" y="3967200"/>
            <a:ext cx="1038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600" spc="-1" strike="noStrike">
                <a:solidFill>
                  <a:srgbClr val="000000"/>
                </a:solidFill>
                <a:latin typeface="Arial"/>
              </a:rPr>
              <a:t>Control mini-DI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386080" y="2651040"/>
            <a:ext cx="698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1000" spc="-1" strike="noStrike">
                <a:solidFill>
                  <a:srgbClr val="000000"/>
                </a:solidFill>
                <a:latin typeface="Arial"/>
              </a:rPr>
              <a:t>2 mW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1000" spc="-1" strike="noStrike">
                <a:solidFill>
                  <a:srgbClr val="000000"/>
                </a:solidFill>
                <a:latin typeface="Arial"/>
              </a:rPr>
              <a:t>20W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1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i="1" lang="en-CA" sz="10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1" i="1" lang="en-CA" sz="1000" spc="-1" strike="noStrike">
                <a:solidFill>
                  <a:srgbClr val="000000"/>
                </a:solidFill>
                <a:latin typeface="Arial"/>
              </a:rPr>
              <a:t>= 5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CB Prototyp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7A1A2-0717-452D-ABAC-B3120C9F05B3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64B864-55EB-4815-9E23-12EF1A21EBB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3T15:23:24Z</dcterms:created>
  <dc:creator>www.powerpointstyles.com</dc:creator>
  <dc:description/>
  <dc:language>en-US</dc:language>
  <cp:lastModifiedBy>w.getchell</cp:lastModifiedBy>
  <dcterms:modified xsi:type="dcterms:W3CDTF">2013-04-03T02:27:05Z</dcterms:modified>
  <cp:revision>134</cp:revision>
  <dc:subject/>
  <dc:title>Blue abstract background </dc:title>
</cp:coreProperties>
</file>